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CD1E-5A54-4AAB-8F7F-073A45D18A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Vind je die bij elkaar? Jij mag er zijn! Jij bent uniek! Door God gewi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ameraadschap…….fijn om dingen samen te doen. Elkaars maatjes; dingen samen delen. Denise en Ro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uidelijkheid………..over verwachtingen en ieders plaats en rol in de relat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aat erover …….anders irritatie en teleurstell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Vind je die bij elkaar? Jij mag er zijn! Jij bent uniek! Door God gewi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ameraadschap…….fijn om dingen samen te doen. Elkaars maatjes; dingen samen delen. Denise en Ro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uidelijkheid………..over verwachtingen en ieders plaats en rol in de relat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aat erover …….anders irritatie en teleurstell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en relatie vraagt tijd………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en relatie vraagt tijd………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F94-571F-4889-9F4B-B1FFA492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EFB-E96D-4C17-A49C-8A919360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FCF-4D80-457B-8999-0AA8C62F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1C9-CD78-4980-855E-241D9093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BC11-8632-4FCF-954B-EDBEFCE8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1B1C-65CC-47A4-98F1-F0833501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EB95-D247-4011-A601-700FFE5C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8E2-097F-4A6F-8C1E-5E664701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A85-9698-4782-B334-4FED0C19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E4A5-5B1A-4873-BFD7-B1819EA2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E02-CD84-4429-AFD9-059FC01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82E-A29F-4F9A-936D-F68A377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BD9E-F7EC-4431-AF4E-205ADDF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3E86-6D5E-423A-8750-12A0124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4C07-10A5-44CB-9850-ABEEB73B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3EC7-92DC-4859-A977-F4AB7A79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919-EDF6-4ABC-97E6-8D7422A1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9A7-2371-442E-8174-42C8532F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11D-9291-4F53-B155-8D8A528F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CE7-2419-4E76-B766-AC170F4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1B5-C769-48BC-8A67-2B8A779A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34A-A787-4758-994A-6E8E7FF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39E-339C-4A90-B376-DC29643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C81-8BCF-4515-B912-EE6CD74D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B141-C2BB-4F60-9A9B-F8ADD1F97A0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43" name="Tekstvak 11"/>
          <p:cNvSpPr/>
          <p:nvPr/>
        </p:nvSpPr>
        <p:spPr>
          <a:xfrm>
            <a:off x="428760" y="5857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384-CDDF-4701-B784-4B8D0F2F1A4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95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het beeld van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jden tegen gericht zijn op je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ijkwaardig, niet 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t huwelijk is een touwtrekwedstrijd tussen twee ‘willen’ die beide even vastberaden zijn NIET te winnen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s er al sprake is van concurrentie dan is het in het dienen…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91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Veilig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6. Duid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Besloten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7. Overeenste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Vrij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8. Seksuele voldo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evesti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9.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Kameraadsc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Openheid na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ond van tr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telijk, publie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Gods aangez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Beslot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, warm 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ets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ns s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Vrij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plooi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ijkwaar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 Bevest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oof in de 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ig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ts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Kameraa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end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zelfde d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. Duid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achtingen h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pr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idelijkheid rol en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7. Overeenste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gezi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zelfde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5e2206"/>
                </a:solidFill>
                <a:latin typeface="AntitledDemi"/>
              </a:rPr>
              <a:t>Avo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5e2206"/>
                </a:solidFill>
                <a:latin typeface="AntitledDemi"/>
              </a:rPr>
              <a:t>Groeien in je rel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el 1"/>
          <p:cNvSpPr/>
          <p:nvPr/>
        </p:nvSpPr>
        <p:spPr>
          <a:xfrm>
            <a:off x="642960" y="1071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6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9" descr="HGJB-logo_support_wit.png"/>
          <p:cNvPicPr/>
          <p:nvPr/>
        </p:nvPicPr>
        <p:blipFill>
          <a:blip r:embed="rId2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Afbeelding 9" descr="roodschild_los.jpg"/>
          <p:cNvPicPr/>
          <p:nvPr/>
        </p:nvPicPr>
        <p:blipFill>
          <a:blip r:embed="rId3"/>
          <a:srcRect l="0" t="34899" r="71657" b="54120"/>
          <a:stretch/>
        </p:blipFill>
        <p:spPr>
          <a:xfrm rot="20985600">
            <a:off x="-1166760" y="5565240"/>
            <a:ext cx="3114720" cy="1501920"/>
          </a:xfrm>
          <a:prstGeom prst="rect">
            <a:avLst/>
          </a:prstGeom>
          <a:ln w="0">
            <a:noFill/>
          </a:ln>
        </p:spPr>
      </p:pic>
      <p:pic>
        <p:nvPicPr>
          <p:cNvPr id="102" name="Afbeelding 5" descr="Logo HGJB transparant.png"/>
          <p:cNvPicPr/>
          <p:nvPr/>
        </p:nvPicPr>
        <p:blipFill>
          <a:blip r:embed="rId4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. Seksuele voldo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im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den voldo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9.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ging het afgelopen we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naar elk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n wat je bezig hou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. Openheid naar b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huwelijk delen met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voor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66009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is het met deze bouwstenen in jullie huwelij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58435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positieve woor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cadeaus krij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lichamelijk conta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 sam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Positieve 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li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moe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endelijke 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ige 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Cadeaus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je ged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ef en eenvou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el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Lichamelijk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aakt voor aanr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de ander prettig 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 Sam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elk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p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b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dinge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ontaan dinge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dek wat de ander prettig 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Welk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1039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ing het m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en in communice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f luiste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r gecommunicee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3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dek jullie moedertalen van de lief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..om de romantiek/het leven in het huwelijk te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..om wederzijds begrip en waardering te verdi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..om regelmatig en zinvol te communic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tegenslagen het hoofd te kunnen bi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7315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oriteiten 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d op numm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partner/gezin op numm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 en kerk op numme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 aan huwelijks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sam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prioriteit aan jullie tijd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 jullie tijd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situa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liefdes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valt je opnieuw op in de ander dat speciaal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vind je fijn in jullie relati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je samen graag meer in zou willen groei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een bijzonder moment voor je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dracht 5: Een liefdes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 en verwon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476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28400" y="1557000"/>
            <a:ext cx="7543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Lees samen de bij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denk een ding dat je kunt doen om de ander iets te geven in zijn of haar liefdestaal (en voer het u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Geef de ander je liefdesbrief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213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214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vond 3 - Groeien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0040" y="1455840"/>
            <a:ext cx="73389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n taak van man en vr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stenen voor een gelukkig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len van de lief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 voor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et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1039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een rustoord voor luie mensen, maar een systematisch programma van vrijwillige en ingrijpende zelfopoffering!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agt dus invest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et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1039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ods eer tot je hoogste doel verheffen, waarbij de ander er wel bij vaart!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3920" y="16430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Kees en Marja\Documents\Samen\Hervormd Bergambacht\Hart voor je huwelijk\2012-09-24\Image.jpg"/>
          <p:cNvPicPr/>
          <p:nvPr/>
        </p:nvPicPr>
        <p:blipFill>
          <a:blip r:embed="rId1"/>
          <a:srcRect l="0" t="0" r="11198" b="1857"/>
          <a:stretch/>
        </p:blipFill>
        <p:spPr>
          <a:xfrm rot="21168000">
            <a:off x="1285920" y="556920"/>
            <a:ext cx="5929200" cy="5389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8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feze 5:2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!       Dit vind ik heel m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?      Dit begrijp ik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 )     Hier heb ik moeite 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2600" y="1163520"/>
            <a:ext cx="44290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hoo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efhebben als Chr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iden als Christ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30640" y="1071720"/>
            <a:ext cx="39704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ef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teu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pec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3571920"/>
            <a:ext cx="77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Samen: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ik u onder elkaar 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vrez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G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cp:lastPrinted>2012-09-24T08:24:15Z</cp:lastPrinted>
  <dcterms:modified xsi:type="dcterms:W3CDTF">2015-01-14T18:07:09Z</dcterms:modified>
  <cp:revision>67</cp:revision>
  <dc:subject/>
  <dc:title>Hart voor je huwelijk</dc:title>
</cp:coreProperties>
</file>